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CCE-54A4-4C53-9C37-E321B7549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852-309B-4E90-B271-99D5CBEB6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F3F-4CD3-4FC9-9DB5-9114CF86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D53-04FE-4619-B1D8-553F843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6B2-A8D6-43F6-B3D1-5242EBF5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26D-8BEC-4D43-953D-346A46B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D88-A85E-4C14-80D3-FDEFD24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B3B-B375-4ABC-BF77-C711F5EA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F9C-46E9-42EA-9B8B-1192D86D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A7D-84AC-4504-AEBD-A0CA2C5E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F0B-62AC-48D4-AE02-97E288C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E7F-8BEE-4185-ADBC-1DF4D95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AB6-08C6-4093-8161-7ADECA4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8EC-11F5-4908-900C-843921E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008-BE75-427E-825E-E66B9A1B1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289520" y="23760"/>
            <a:ext cx="66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Ocean-Land-Atmosphere Model (OLA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 expansion of RAMS into an Earth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320" y="4726080"/>
            <a:ext cx="335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LAM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solves a finite-volume analog of the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ull compressible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Navier-Stokes equations in conservation form, and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xactly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conserves mass and  moment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57560" y="4251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cosahe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286000" y="6276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Unstructured Gri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; No overlapping grid cell; No special nest communication; Each cell communicates directly with its neighbor independently of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2682720" y="762120"/>
            <a:ext cx="51660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544160" y="1143000"/>
            <a:ext cx="123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 Gr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hav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arte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bt1"/>
          <p:cNvPicPr/>
          <p:nvPr/>
        </p:nvPicPr>
        <p:blipFill>
          <a:blip r:embed="rId3"/>
          <a:srcRect l="22393" t="23575" r="13608" b="26728"/>
          <a:stretch/>
        </p:blipFill>
        <p:spPr>
          <a:xfrm>
            <a:off x="5276880" y="2590920"/>
            <a:ext cx="371484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t5"/>
          <p:cNvPicPr/>
          <p:nvPr/>
        </p:nvPicPr>
        <p:blipFill>
          <a:blip r:embed="rId4"/>
          <a:srcRect l="22155" t="52872" r="43550" b="25670"/>
          <a:stretch/>
        </p:blipFill>
        <p:spPr>
          <a:xfrm>
            <a:off x="5105520" y="4572000"/>
            <a:ext cx="1600200" cy="129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5:13:02Z</dcterms:created>
  <dc:creator>David Medvigy</dc:creator>
  <dc:description/>
  <dc:language>en-US</dc:language>
  <cp:lastModifiedBy>walko</cp:lastModifiedBy>
  <dcterms:modified xsi:type="dcterms:W3CDTF">2009-04-15T23:22:52Z</dcterms:modified>
  <cp:revision>337</cp:revision>
  <dc:subject/>
  <dc:title>Slide 1</dc:title>
</cp:coreProperties>
</file>